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C97C-DB0F-404E-A3E6-E07BEC1BC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32E3-A312-42F7-A7DD-AB46076D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9862-8FE8-48C4-8BC5-B968B7597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a narrative while they are marking the maps.  Students can describe other places, but th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66A-3184-413A-AA3C-F9E3800C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FF7-B0CA-4094-8605-1B984ED2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9A5-FFB0-416D-9833-AF21CC12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0E3-5978-4E3B-9BBA-8971AC6F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FD54-2765-4A78-883D-AA6A513C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A7E1-2E02-49BD-B5A4-C42BC81C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A39E-B664-4832-8B44-0EFF053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B9B8-679F-48AB-B270-53E81C4F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74EC-DC68-42B0-BC30-4A1BC951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14F7-4F18-49C6-8059-0CFE6ACD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4153-D69F-4DAE-B077-4E9700E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F26-ED69-4C62-9089-4385BA69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7610-3884-4E6C-81B6-A7F4B43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EBF6-4EFA-49E2-8E93-38C90B9F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669-C593-4BBD-ADE7-CE2DBF6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2EC2-A1DC-421E-BF8F-253F5502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A2AD-38E8-40E0-9A54-7FD9FFF7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B3B-63FE-46ED-8E9D-A518F423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AFB-42DC-4B69-BB0B-17AADFD6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036-CC7A-4BE2-A556-788041CD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479-0AC5-4060-81BF-B758DC8C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B55-911F-41EB-BB26-E698019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FF6-301A-4BE5-8FB1-ADF63E4B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4FB-0DD4-4879-9F63-7D9E250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58AD-6B63-4FF1-895D-82D313A8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EFF-38ED-4847-B2FF-84A96282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E 352: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migrant Language and Cultur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880" y="5790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aura and Ky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5,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school children"/>
          <p:cNvPicPr/>
          <p:nvPr/>
        </p:nvPicPr>
        <p:blipFill>
          <a:blip r:embed="rId1"/>
          <a:stretch/>
        </p:blipFill>
        <p:spPr>
          <a:xfrm>
            <a:off x="2514600" y="2743200"/>
            <a:ext cx="4352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k Jose your ques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ck in groups discuss-  how effective was your questions? Who asked the most helpful ques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Guiding 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769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es DeParle “story behind the story” (paragraph 3) relate to Jose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arle identifies several attitudes towards immigration and migration. What was Jose’s welcome like in the U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nk about Jose’s own movement to the US and the way he made his journey and the difficulties he faced. Realizing that we don’t know Jose’s motivations – what theories can your group come up with what motivated him to make this perilous and illegal trip to the U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ote- “’Transnational’ is a comfort but also a concern for those who think it impedes integration.” What do you think DeParle means by thi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sho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ke 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ogle Ear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next tim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 Next Time…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 through Immigration study posted on wiki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fter you graduate, where would you choose to move to for a job? Why? Or why would you choose not to move? What factors would influence your decision?  Write a reflective para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migration/immigra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define global education in an age of migra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and survey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st news articles to wik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nk-pair-shar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lm clip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ussion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shop time- Google Eart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ults of the surve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k pair shar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nk: what was the most salient idea from the last class was that stuck with you throughout the week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ir up with your neighbo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e out thought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The Short Life of José Antonio Gutierrez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304560"/>
            <a:ext cx="7313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spects of José’s experience seem to you typical, and which seem deeply and uniquely person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id you learn about José’s life that would be useful for you as his teach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teacher, what strategies would you use in order to see and hear those things José is communicat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see the issues of language and national identity playing out in José’s stor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vit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 group- share out the word you wrote your paragraph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nd one partner who has same word or most similar wo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pairs, discuss - how does their word relate to the world of Jo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out a few ide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ne big 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the same pair- talk about what else you would need to know about Jose to welcome him into your classroom the first day – come up with three questions that would give you valuable information to work with Jose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urn to another pair near you- (make groups of four). Take your 6 questions and narrow them down to one big question that Jose could answer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20:13:30Z</dcterms:created>
  <dc:creator>lauren mcarthur</dc:creator>
  <dc:description/>
  <dc:language>en-US</dc:language>
  <cp:lastModifiedBy>Jeff Edwards</cp:lastModifiedBy>
  <dcterms:modified xsi:type="dcterms:W3CDTF">2010-09-15T03:54:47Z</dcterms:modified>
  <cp:revision>147</cp:revision>
  <dc:subject/>
  <dc:title>ED 431 Teaching History and Social Studies in the Elementary School  Class 1, 2005</dc:title>
</cp:coreProperties>
</file>